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3864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15160" y="12949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3864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15160" y="38422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086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6320" y="384228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294920"/>
            <a:ext cx="37180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76197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09680" indent="-22860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8224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1B7-FE63-456F-B4FC-6AC27760E03C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734652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290E-E4CB-4DBA-898A-DB176959B1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>
            <a:hlinkClick r:id="" action="ppaction://hlinkshowjump?jump=previousslide"/>
          </p:cNvPr>
          <p:cNvSpPr/>
          <p:nvPr/>
        </p:nvSpPr>
        <p:spPr>
          <a:xfrm>
            <a:off x="81532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>
            <a:hlinkClick r:id="" action="ppaction://hlinkshowjump?jump=nextslide"/>
          </p:cNvPr>
          <p:cNvSpPr/>
          <p:nvPr/>
        </p:nvSpPr>
        <p:spPr>
          <a:xfrm flipH="1">
            <a:off x="845748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282600"/>
              <a:ext cx="8610480" cy="61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343040"/>
            <a:ext cx="7772400" cy="1469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008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0920" y="647712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Finance Mode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34880" y="647712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555-935D-4F97-85C5-BBB74E8B6FD0}" type="datetime5">
              <a:rPr b="1" lang="en-US" sz="12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22840" y="64771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C39-F6F0-49E0-8315-9098F40328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 rot="5400000">
            <a:off x="8641440" y="65221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 flipH="1" rot="16200000">
            <a:off x="8363520" y="6520320"/>
            <a:ext cx="158760" cy="176400"/>
          </a:xfrm>
          <a:prstGeom prst="triangle">
            <a:avLst>
              <a:gd name="adj" fmla="val 50000"/>
            </a:avLst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830592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 flipH="1">
            <a:off x="860976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ing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Keep an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open mind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 about subjects that may not seem directly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In modelling, structuring the model and conventions are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more important than excel tricks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.  I will concentrate on excel techniques that are practical in real-world modelling.  </a:t>
            </a:r>
            <a:r>
              <a:rPr b="1" i="1" lang="en-BS" sz="1800" spc="-1" strike="noStrike">
                <a:solidFill>
                  <a:srgbClr val="000000"/>
                </a:solidFill>
                <a:latin typeface="Arial"/>
              </a:rPr>
              <a:t>DON’T LET THE EXCEL SLOW US DOWN; THE FINANCE IS MORE IMPORTANT, YOU CAN GET THE EXCEL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I choose to show as much as possible relatively quickly.  The </a:t>
            </a:r>
            <a:r>
              <a:rPr b="1" i="1" lang="en-BS" sz="1800" spc="-1" strike="noStrike">
                <a:solidFill>
                  <a:srgbClr val="3333cc"/>
                </a:solidFill>
                <a:latin typeface="Arial"/>
              </a:rPr>
              <a:t>reference materials</a:t>
            </a: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 are provided so that you can feel more comfortable with excel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This is not a university course; you will not be tested and you do not have to remember absolutely every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Please do not be shy about questions and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S" sz="1800" spc="-1" strike="noStrike">
                <a:solidFill>
                  <a:srgbClr val="000000"/>
                </a:solidFill>
                <a:latin typeface="Arial"/>
              </a:rPr>
              <a:t>Through creating models, you can learn how to read and interpret models received from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and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tructure – Simple Annu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Model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Period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Schedules –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t Schedules – Complexities (Sweeps, Defaults, Sculp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Flow and Waterfall – Senior and Junio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sset Modules and Depr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Re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 Statement and Tax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ty Distribution Issues – Re-financing and Fli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ation and 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1: Overview an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Discussion of Model Objectives and Back of Envelop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ion of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Annual Model with Modules and Balance She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2: Model Structure and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on Switches and model set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ing up dates and counting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RR and MIRR verification and proble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s of delay and different concession peri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163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ies, Sensitivity and Scenario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match and index with growth and inf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match and index with sweep percentage and descend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27648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if and Fiscal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: Basic Debt Modeling, Debt Capacity and Adjustment of Sensitivity Simple Debt Input and Use of Mi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 during construction and roll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 Cash Flow and Project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 Flow adjustments for depreciation on I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t Capacity and Sculp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DSCR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-even with and without DSCRA in DSCR in num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CRA flows in D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CR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 with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ying interest rate and debt I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4: Complex Debt Structuring and Circ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eep and 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sweep and trap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SCR criteria for cash sweep and 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f model with sweep and 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e costs and benefits with and without volatile cash flow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l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nd Paste Special Macro vers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Seek Macro and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ration in 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and scenario analysis with mac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Analysis – Default on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 of default and repayment of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 of IRR o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-even analysis with debt and equity 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5: Cash Waterfall – Subordinated deb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ization of interest or a portion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ing fund and bullet re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 on senior and subordinated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last date outstanding for sub 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6: Fixed Assets, Taxes, Fees, Operating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ping-up DSCRA from cash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ing amounts from DSCRA to meet cash short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and benefit analysis of alternative DSC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7: Fixed Assets, Taxes, Fees, Operating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assets and depr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ing capital expendi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of accelerated tax depreciation and MAC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depreciation by vintage with best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n F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ng reserves (Build-up and accoun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8: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 Operating L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ic calculation from book earnings and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lows and outflows from NOL ba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justment to NOL balance for expiration of N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red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ation of book and cash 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umulated deferred taxes on balance 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 9: Equity IRR and Debt I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f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eak-ev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Equity Investors and Flip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Future Value (Replicating XIR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alternative distrib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inancing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ory and upside o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chanics with source and use of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9360">
              <a:lnSpc>
                <a:spcPct val="80000"/>
              </a:lnSpc>
              <a:spcBef>
                <a:spcPts val="24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debt sizing from prospective DS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Outline Continu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0: Risk Analysis and Monte Carlo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Monte Carlo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 and LGD from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 Real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1652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nado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10:53:03Z</dcterms:created>
  <dc:creator>John Lennon</dc:creator>
  <dc:description/>
  <dc:language>en-US</dc:language>
  <cp:lastModifiedBy>Elvis Presley</cp:lastModifiedBy>
  <cp:lastPrinted>1999-07-15T13:20:36Z</cp:lastPrinted>
  <dcterms:modified xsi:type="dcterms:W3CDTF">2008-05-17T21:20:49Z</dcterms:modified>
  <cp:revision>294</cp:revision>
  <dc:subject/>
  <dc:title>Objectives of Project Finance Models </dc:title>
</cp:coreProperties>
</file>